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5B9E-B3A9-4741-9582-4C47D3C93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6D34-AA58-42FA-B750-E6DBCE55C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8A9B-1F9B-4FC5-B328-245FE0B0D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bfoodchemistry.saschina.wikispaces.net/F1+Food+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5906-1806-40D5-B656-F2FE9ADE7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4F53-7809-4195-938F-28BF37356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unctionalfitmag.com/blog/2012/07/30/protein-foods-protein-powder-2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1EEE-4D48-4306-9EB4-00EC53438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cl.ac.uk/~sjjgsca/ProteinStruct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2D00-03D1-4426-97DD-D716B9772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9E29-9F89-467B-8B72-D294AF23C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herdaily.com/health/892/the-effects-of-food-additives-and-preservative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6901-ABAE-41FF-9ED0-461F0073C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cienceinafrica.com/old/2006/december/oil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2B76-87BE-4668-92B5-BA4A2782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E9BA-5883-48F9-9657-4AE868F8F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oolwizardswi.com/?attachment_id=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7C6C-1ECD-4CCE-9D54-256C40052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99A9-BA49-4C11-9698-E90C56145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5665-A84F-4411-8421-B49FF3719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nolarecipes.com/food-fact-or-fa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1F2E-A15B-4A55-B6CB-B748D0152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ofwindsor.com/index.php?title=File:Canada_Food_Guide_2012_side_0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714F-4EFD-4C4D-B0FD-0831C4C3F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animals require more energy to keep their bodies at a constant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B911-10E1-45E7-803C-6D569BB2B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FD67-0E4E-4ACE-BBA0-D42450E9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1AC8-ED76-4EAA-83C8-59126F87B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4875-99F9-49EE-97F7-BC9869882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s = chemicals that an organisms needs to grow, build &amp; repair tissues, and to produc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303F-C717-47A6-A409-F0994C364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lifetime-fitness.ca/pages/meet-our-trainers/trainer-tips--nutritiona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0648-4884-4FE0-84D9-9914AAEC3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merthehammer.com/2010/12/04/understanding-ingredient-labels-todays-tip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6A4-65D3-446A-9ECC-7E351029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9FD-6A8A-46E7-9B58-C05E2C29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D4C-D79F-4B24-8443-3DBF9E94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E29-A677-4052-8067-99999476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BFB-F792-4F02-958C-5836917D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CD3-5114-4DF9-AE27-D9439630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08A-26AD-4697-8F9A-341CD7B4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15F-B79A-4045-940D-82D67F61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5D4-3898-40A3-A246-A7E52669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FE4-7F35-4CDF-867B-3FD1F86F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65E-CB19-49D4-97A1-43796130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38B-ADCE-4877-B446-D31A0A4E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66A5-FD75-4C5C-AA28-E2BA416EC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s://www.canada.ca/en/health-canada/services/canada-food-guides/revision-proces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: Structure &amp;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&amp; What We Need to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1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carbohydrate-diagram"/>
          <p:cNvPicPr/>
          <p:nvPr/>
        </p:nvPicPr>
        <p:blipFill>
          <a:blip r:embed="rId1"/>
          <a:stretch/>
        </p:blipFill>
        <p:spPr>
          <a:xfrm>
            <a:off x="1017720" y="609480"/>
            <a:ext cx="7108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saccharides (starch, cellulose (fibre), glycoge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red as glyc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ss stored as 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fferen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in size &amp; shape but same basic structure (amino acid ch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30% of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igh-Protein-Foods"/>
          <p:cNvPicPr/>
          <p:nvPr/>
        </p:nvPicPr>
        <p:blipFill>
          <a:blip r:embed="rId1"/>
          <a:stretch/>
        </p:blipFill>
        <p:spPr>
          <a:xfrm>
            <a:off x="4419720" y="2509920"/>
            <a:ext cx="449568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peptide1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for energy, but mostly for many othe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nergy-storage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in cell membranes, some hormones, insulation  of orga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30% of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01_01_junkfood"/>
          <p:cNvPicPr/>
          <p:nvPr/>
        </p:nvPicPr>
        <p:blipFill>
          <a:blip r:embed="rId1"/>
          <a:stretch/>
        </p:blipFill>
        <p:spPr>
          <a:xfrm>
            <a:off x="4705200" y="1981080"/>
            <a:ext cx="369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oil1"/>
          <p:cNvPicPr/>
          <p:nvPr/>
        </p:nvPicPr>
        <p:blipFill>
          <a:blip r:embed="rId1"/>
          <a:stretch/>
        </p:blipFill>
        <p:spPr>
          <a:xfrm>
            <a:off x="977760" y="609480"/>
            <a:ext cx="718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ty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turate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tty acids (e.g., omega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body is 55-60%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for cell cytoplasm, chemical reactions, to digest food &amp; eliminate was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 of water a day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tamins &amp;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very small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-soluble vitamins (A,D,E,K) vs. water-soluble 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such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lc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osphor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important for your bones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ortant in your bloo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we need to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Food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anadas-Food-Guide"/>
          <p:cNvPicPr/>
          <p:nvPr/>
        </p:nvPicPr>
        <p:blipFill>
          <a:blip r:embed="rId1"/>
          <a:srcRect l="0" t="4626" r="0" b="4626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3280" y="1773360"/>
            <a:ext cx="388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nutri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risk of chronic diseases/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version is from 2007 &amp; is being reviewed &amp; updated (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anada_Food_Guide_2012_side_02"/>
          <p:cNvPicPr/>
          <p:nvPr/>
        </p:nvPicPr>
        <p:blipFill>
          <a:blip r:embed="rId1"/>
          <a:stretch/>
        </p:blipFill>
        <p:spPr>
          <a:xfrm>
            <a:off x="152280" y="1427040"/>
            <a:ext cx="89154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=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ll of the chemical reactions that occur in y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atabolic re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abolic re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bolic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rate at which body converts stor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to working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body size, physical activity, sex, age, hereditary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al metabolic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M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metabolic rates of endothermic vs. ectothermic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energy do you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ing…4.1 kJ/kg/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ting…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ing…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mputer keyboard…9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ing 3.2 km/h…1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12.9 km/h…6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ble 1, page 3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&amp; How Much We Need to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Essential Nutr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s (f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ily used as a source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fruits &amp; vegetables and g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% of your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arbohydrate-food-shot--350"/>
          <p:cNvPicPr/>
          <p:nvPr/>
        </p:nvPicPr>
        <p:blipFill>
          <a:blip r:embed="rId1"/>
          <a:stretch/>
        </p:blipFill>
        <p:spPr>
          <a:xfrm>
            <a:off x="4648320" y="2652840"/>
            <a:ext cx="3809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ga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gm_fiberone-1-293x300"/>
          <p:cNvPicPr/>
          <p:nvPr/>
        </p:nvPicPr>
        <p:blipFill>
          <a:blip r:embed="rId1"/>
          <a:stretch/>
        </p:blipFill>
        <p:spPr>
          <a:xfrm>
            <a:off x="2562120" y="1981080"/>
            <a:ext cx="401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6:41:04Z</dcterms:created>
  <dc:creator>rubina khan</dc:creator>
  <dc:description/>
  <dc:language>en-US</dc:language>
  <cp:lastModifiedBy>rubina khan</cp:lastModifiedBy>
  <dcterms:modified xsi:type="dcterms:W3CDTF">2018-05-24T15:15:12Z</dcterms:modified>
  <cp:revision>101</cp:revision>
  <dc:subject/>
  <dc:title>PowerPoint Presentation</dc:title>
</cp:coreProperties>
</file>